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8CA1-FBC3-4E3A-8D56-110C08AC1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74FCF-53B1-4000-89A3-7B4A6284F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8C5F-CDBA-4AEC-BD3F-DC2D670CD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3165-8589-45A7-AB4A-DDDB421B02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7F69-2938-4808-8FFD-E7FB9519B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340D-E5A8-458D-8AF7-C1C393BE8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0846-24E6-44C9-9557-49D79C51A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F3C0-D890-4F73-9793-2ADC55AFE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7760-8C2F-4C08-8CE7-041EC7A46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8DBE-1B88-40FF-A8E7-3083F3FBE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1731-D8FD-4AEF-A5C4-E346B19E2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67C1-3EBF-430F-9076-0C778DD2C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c7ac4b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3F7-9FA7-48E6-B0F6-9BAF649874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Ringer: 10-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opinion based off Ancient Egypt Geo, what are the pro and cons to living in Ancient Egy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52D7-433A-45DE-B65A-DBE8833628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7: Computer Hi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8: Hieroglyphics c-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746280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C44B-BCE8-4D2B-927D-3A5276A451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eroglyph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00200" y="48002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 rot="16200000">
            <a:off x="3767760" y="187920"/>
            <a:ext cx="198288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What is a Hieroglyp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0b00"/>
                </a:solidFill>
                <a:latin typeface="Arial"/>
              </a:rPr>
              <a:t>What the ancient egyptians used to write w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871560" y="1674720"/>
            <a:ext cx="33606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How The Alphabe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90b00"/>
                </a:solidFill>
                <a:latin typeface="Arial"/>
              </a:rPr>
              <a:t>divided into 4 categori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2712"/>
                </a:solidFill>
                <a:latin typeface="Arial"/>
              </a:rPr>
              <a:t>Alphabetic signs represent a single soun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2000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2712"/>
                </a:solidFill>
                <a:latin typeface="Arial"/>
              </a:rPr>
              <a:t>We may never know how the words were form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4869000" y="1687680"/>
            <a:ext cx="3597120" cy="4349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fe"/>
                </a:solidFill>
                <a:latin typeface="Arial"/>
              </a:rPr>
              <a:t>How Did You Learn To Write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03440" y="1625400"/>
            <a:ext cx="5143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You attend a special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Master of writing hieroglyphics= Sc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80836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What Are Scrib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People who attend a 5 year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Usually men but there was women doctors who were able to read hieroglyphi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04920" y="804960"/>
            <a:ext cx="3711600" cy="6053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ibes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Most often it was the children of scribes who learned hieroglyph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many craftsmen were able to get there kids into the school. But, it was very 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554640" cy="4929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953551</dc:creator>
  <dc:description/>
  <cp:keywords/>
  <dc:language>en-US</dc:language>
  <cp:lastModifiedBy>TylerDaughtry</cp:lastModifiedBy>
  <dcterms:modified xsi:type="dcterms:W3CDTF">2013-10-02T12:03:03Z</dcterms:modified>
  <cp:revision>4</cp:revision>
  <dc:subject/>
  <dc:title>Hieroglyphics </dc:title>
</cp:coreProperties>
</file>